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E19-2152-4639-ACC1-647F6C7F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F34-23CD-4FB4-80EA-9071A643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E62-C264-4E9B-9F8E-595EFFAE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864-4E26-410B-BC4D-1B83EACD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CC18-9F3E-4F81-86D7-736BF689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C92C-30BF-4814-B335-CC79EA28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BBC1-B2B7-4031-964D-EFA81AA8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DEAA-5E17-445E-9BF8-5ACDA84F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C7CC-DD74-4206-B703-77A7ECC3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1945-A28C-4B2D-AC93-8F218A51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AD45-CB08-444A-A473-2EE6494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C7E-9144-412E-8941-B416E301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2AFE-0088-4B9B-BB9E-3034E9E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1696-14A2-481B-8D6A-33482D51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5E7D-CD0D-4277-A585-E21AB0DA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C71F-4C72-4935-9EF4-0E913006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5156-F1F1-4535-8E3C-87E74793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5CF-9610-4ED3-BE02-A93485F4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6FD-F5A2-4C89-ABF7-7FA552B2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694-A1B0-4664-9807-C398E63D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A44-76B8-456D-BE1B-199C9403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1F8-1ED8-44C1-86DC-A651256F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203-8164-4153-85BF-106DB576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30D-E426-4804-99F3-0F8C1F46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D3D3-86A6-41C3-8114-A1F68441F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ADD0-21E7-40EB-AA63-3C33C5AC04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Skills and Techniqu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Revision / part 4 NAB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718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Exam ques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 Choose an activity. Describe the features of a model performance in a skill of your choice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4 mar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nswering the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me the activity and sk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type of skill is i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s the purpose of the skill? i.e. OHC is a building sh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lain that skills can be broken down into P.A.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be the P.A.R of the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6804000" y="189000"/>
            <a:ext cx="213372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identify strengths and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improve your skill level using a P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iti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Methods of gathering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Why appropri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ermanent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pe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an be comp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liabl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ntroll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ages of learn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3141720"/>
          <a:ext cx="84582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41720"/>
                    <a:ext cx="84582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ethods of practi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st link to the stage of lea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Shadow practic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preparation s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itat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epetition drills (prep / 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or without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tinuous rally (pract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th players play same shot repeated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Methods of practi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mbination rall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am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nditioned game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cus on a certain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essure drills (automa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ame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rove skill whilst under pres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Monitoring trai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ining di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-tes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acher advice /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nsure improvements are being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nsure training is challe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stablish any further developments that have to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ue date: Monday 26</a:t>
            </a:r>
            <a:r>
              <a:rPr b="1" lang="en-GB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Octo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 4 of N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26:10Z</dcterms:created>
  <dc:creator>FlemingC1</dc:creator>
  <dc:description/>
  <dc:language>en-US</dc:language>
  <cp:lastModifiedBy>FlemingC1</cp:lastModifiedBy>
  <dcterms:modified xsi:type="dcterms:W3CDTF">2009-10-19T11:24:27Z</dcterms:modified>
  <cp:revision>7</cp:revision>
  <dc:subject/>
  <dc:title>Skills and Techniques </dc:title>
</cp:coreProperties>
</file>